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D440-1D85-4E05-9673-0133BFC1E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asons to think that representative government is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escape the state of nature (which in Kant is a state of war) through a state, ought we not to take the next step and form a world st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Vi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nt’s essay is itself a marvel of cosmopolitan enlightenment – full of sympathetic references to places and people that he never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based on Kant’s historic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2 includes a prohibition on the use of mercen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reliminary articles are based on Kant’s historical experience. What are some modern equival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F9E-AB15-4071-B1D5-E1525F89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749-DBC5-4E97-8600-7540DF08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1EC-A1EA-46A4-A639-2AC30660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271-3CE9-41F5-8A66-564072AD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F45-BC6B-4780-B334-742A9FA3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470-3131-4576-B35B-CFB7ACD4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B107-6F61-44D7-8F30-726F9E8D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A61-BFAD-4D15-8A05-4A3A6725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7EA-5CB1-4E26-A3D8-2399DFEC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E8D-F497-43FB-944D-D2F58BCD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260-D81B-46BD-ADB3-54FFF812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6C2-8A87-4D60-B634-D8D807ED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3D40-1014-4406-9EF3-742289D49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2514600" cy="3390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333399"/>
                </a:solidFill>
                <a:latin typeface="Arial"/>
              </a:rPr>
              <a:t>Kant and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400" spc="-1" strike="noStrike">
                <a:solidFill>
                  <a:srgbClr val="333399"/>
                </a:solidFill>
                <a:latin typeface="Arial"/>
              </a:rPr>
              <a:t>Perpetual 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4 Septem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petual Peace: Definitive Art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Civil Constitution of Every State Should Be Republican” (principle of civil r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aw of Nations Shall be Founded on a Federation of Free States” (principle of international r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aw of World Citizenship Shall Be Limited to Conditions of Universal Hospitality” (principle of cosmopolitan r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he Civil Constitution of Each State Shall Be Republi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republican constit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hould we expect that republican constitutions are more likely to lead to peace than other constitu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republican constitutions always po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publican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itution where the people are only subject to laws it gives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executive and legislative power are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in Kant’s time such constitutions hardly exi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peac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people (through its representatives) has to decide on whether or not to go to war, it will weigh its costs much more carefully than when a despotic ruler decides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it pos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organizing a state, however hard it may seem, can be solved even for a race of devils, if only they are intellig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ublican constit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if human nature is “depraved” we can create constitutions that have a peaceful tend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deration of free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federation of free st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it promote pe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it po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federation of free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a world state or a super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ncerned only with regulating international disputes among its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2505240"/>
            <a:ext cx="40384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not a world st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in a world state would be accomplished at the cost of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separates us through language and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peac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feder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ee 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.e., republican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states would be tied together by relations which make war much more co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“perpetual peace”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7920" y="2147760"/>
            <a:ext cx="2648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it pos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werful free people may serve as the nucleus of a federation, which might then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several regional federations might grow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mopolitan Right as the Right of Hospit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it lead to pe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it po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ight of hospit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to visit and trade (not necessarily to l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this lead to pe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is ultimately incompatible with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ounteracts our natural “separating” tendencies (via language, culture, etc.) and creates mutu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t argues against “conquest” in the name of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it pos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spirit of trade” sooner or later dominates ever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an end to war pos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cannot be certain that i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ssible, then it is a duty to try to make it a re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not be contrary to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ls must not be utterly incompatible with 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State of Nature and K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grees with Hobbe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state of nature is a state of war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uman beings have a duty to create political communities to get out of tha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te of Nature and K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grees with Hobbes and Rousse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at the international system is also in a state of nature and hence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ut goes further in saying that we have a duty to end war in that state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work towards this state, if we do not believe it is impo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petual Peace: a Model Peace Trea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Arti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that can be taken now to “wind down” a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v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and institutions that definitively end a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urity that the parties give to each other so that they know the other will co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reement that is not made public but is necessary to make the peace 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petual Peace: Preliminary Art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“preliminary articles” are designed, in Kant’s view, to make wa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s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future pea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specific content is based on Kant’s historica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petual Peace: Preliminary Art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No Treaty of Peace Shall Be Held Valid in Whi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re Is Tacitly Reserved Matt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No Independent States, Large or Small, Shall Come under the Dominion of Another State by Inheritance, Exchange, Purchase, or Don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Standing Armies Shall in Time Be Totally Abolish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National Debts Shall Not Be Contracted with a View to the External Friction of Stat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No State Shall by Force Interfere with the Constit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 Gover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 Another St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No State Shall, during War, Permit Such Acts of Hostility Which Would Make Mutual Confidence in the Subsequent Peace Impossi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82800" y="1600200"/>
            <a:ext cx="3576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3:37:15Z</dcterms:created>
  <dc:creator>Full Name</dc:creator>
  <dc:description/>
  <dc:language>en-US</dc:language>
  <cp:lastModifiedBy>Full Name</cp:lastModifiedBy>
  <dcterms:modified xsi:type="dcterms:W3CDTF">2008-09-23T22:38:55Z</dcterms:modified>
  <cp:revision>9</cp:revision>
  <dc:subject/>
  <dc:title>Kant</dc:title>
</cp:coreProperties>
</file>